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402-196F-42C7-93CB-8EDCB034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E86-CB12-4298-AF08-0E62851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FE4-9347-4203-9785-49A69584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091-F813-4193-A71D-4B690F87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57E-4B40-4BB6-9FA6-5233F4AB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9B8-0B14-425D-BFE4-175A4AB9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360-9222-496C-9E56-C1AD9244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005-D8BC-4329-A357-2CBEDA8A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D8D-5E3A-447E-A1F6-3EDA97B8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F57-69BD-40A2-9D96-A0E2ECDD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88C-5401-452D-B6AB-6BB04A78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1B0-56F3-4792-9EAF-2D7F9992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C820-022B-4437-8149-A58710C6D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e 7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5 de octubre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practicamos para la Prueba del Repaso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92d050"/>
                </a:solidFill>
                <a:latin typeface="Arial"/>
              </a:rPr>
              <a:t>L.O: to recall question words and review –A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hicos no ________ para el examen. 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os ________ una prueba. (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 muchos lápices. (comp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no __________ italiano. 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 el programa de televisión. (mi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____________ ustedes al profesor? (escuch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Identifica el lu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sus materiales escola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toman el almuerz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la ropa que necesitan par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onde tienen que ir los alumnos para pa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llevar sus libros y materiales escolares 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tomar apuntes en cl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Write the name of five colo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Repaso Gramatical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320" y="17226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poder hacer preguntas necesitamos las PALABRAS INTERROGATIVA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order to answer questions, we need interrogative word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pañol, siempre debemos usa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os de interrogac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Spanish, we must always us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mark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4.bp.blogspot.com/-HblgNJbhyF4/VV40lhipFkI/AAAAAAAADls/4q2MqHYPPG0/s1600/interrogacion.png"/>
          <p:cNvPicPr/>
          <p:nvPr/>
        </p:nvPicPr>
        <p:blipFill>
          <a:blip r:embed="rId1"/>
          <a:stretch/>
        </p:blipFill>
        <p:spPr>
          <a:xfrm>
            <a:off x="0" y="5257800"/>
            <a:ext cx="20289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://4.bp.blogspot.com/-s1-Wo_EefwU/VF4BuQ-HawI/AAAAAAAACtA/GA5UAgp3sC0/s1600/INTERROGACION.png"/>
          <p:cNvPicPr/>
          <p:nvPr/>
        </p:nvPicPr>
        <p:blipFill>
          <a:blip r:embed="rId2"/>
          <a:stretch/>
        </p:blipFill>
        <p:spPr>
          <a:xfrm>
            <a:off x="2743200" y="5462640"/>
            <a:ext cx="1595520" cy="133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4.bp.blogspot.com/-aMHT6enrWB8/UmbaQqVdI0I/AAAAAAAAAYo/eSHoNaMcr9s/s1600/signo+de+interrogacion.gif"/>
          <p:cNvPicPr/>
          <p:nvPr/>
        </p:nvPicPr>
        <p:blipFill>
          <a:blip r:embed="rId3"/>
          <a:srcRect l="1925" t="11554" r="0" b="19800"/>
          <a:stretch/>
        </p:blipFill>
        <p:spPr>
          <a:xfrm>
            <a:off x="5181480" y="5257800"/>
            <a:ext cx="16146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http://2.bp.blogspot.com/-f0XHahx66vU/VN1Y_4yrVcI/AAAAAAAArZQ/csCJ5uMc9L4/s1600/signos.interrogacion.jpg"/>
          <p:cNvPicPr/>
          <p:nvPr/>
        </p:nvPicPr>
        <p:blipFill>
          <a:blip r:embed="rId4"/>
          <a:stretch/>
        </p:blipFill>
        <p:spPr>
          <a:xfrm>
            <a:off x="7238880" y="5229360"/>
            <a:ext cx="16192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"/>
          <p:cNvPicPr/>
          <p:nvPr/>
        </p:nvPicPr>
        <p:blipFill>
          <a:blip r:embed="rId1"/>
          <a:stretch/>
        </p:blipFill>
        <p:spPr>
          <a:xfrm rot="20887800">
            <a:off x="6567480" y="158400"/>
            <a:ext cx="2459160" cy="258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static9.depositphotos.com/1571321/1194/v/950/depositphotos_11943048-Question-mark-symbol-with-ancient-drawing.-Vector-illustration.jpg"/>
          <p:cNvPicPr/>
          <p:nvPr/>
        </p:nvPicPr>
        <p:blipFill>
          <a:blip r:embed="rId2"/>
          <a:stretch/>
        </p:blipFill>
        <p:spPr>
          <a:xfrm rot="1662600">
            <a:off x="4730400" y="2136240"/>
            <a:ext cx="2117880" cy="188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br>
              <a:rPr sz="44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(Question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76680" y="12654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(es)…?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do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dónde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or qué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ara qué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(es)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o(s)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a(s)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743200" y="129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o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828800" y="1828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at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362320" y="2286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n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133720" y="2835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re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14600" y="3352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o where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68640" y="3881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 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473200" y="4343400"/>
            <a:ext cx="51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y…? </a:t>
            </a:r>
            <a:r>
              <a:rPr b="0" lang="es-ES_tradnl" sz="2400" spc="-1" strike="noStrike">
                <a:solidFill>
                  <a:srgbClr val="0000ff"/>
                </a:solidFill>
                <a:latin typeface="Verdana"/>
              </a:rPr>
              <a:t>(for what reason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646360" y="4871880"/>
            <a:ext cx="46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y…? </a:t>
            </a:r>
            <a:r>
              <a:rPr b="0" lang="es-ES_tradnl" sz="2400" spc="-1" strike="noStrike">
                <a:solidFill>
                  <a:srgbClr val="0000ff"/>
                </a:solidFill>
                <a:latin typeface="Verdana"/>
              </a:rPr>
              <a:t>(for what purpose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73200" y="5405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i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805120" y="609588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 many/ mu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" name="Picture 14" descr="http://images.wikia.com/logocreation/es/images/1/16/Signos_de_interrogaci%C3%B3n.png"/>
          <p:cNvPicPr/>
          <p:nvPr/>
        </p:nvPicPr>
        <p:blipFill>
          <a:blip r:embed="rId3"/>
          <a:stretch/>
        </p:blipFill>
        <p:spPr>
          <a:xfrm rot="913800">
            <a:off x="6431040" y="3860640"/>
            <a:ext cx="29462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ALABRAS INTERROG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24:21Z</dcterms:created>
  <dc:creator>Helen Zumaeta</dc:creator>
  <dc:description/>
  <dc:language>en-US</dc:language>
  <cp:lastModifiedBy>Helen Zumaeta</cp:lastModifiedBy>
  <cp:lastPrinted>2015-10-05T20:06:40Z</cp:lastPrinted>
  <dcterms:modified xsi:type="dcterms:W3CDTF">2015-10-05T20:27:10Z</dcterms:modified>
  <cp:revision>26</cp:revision>
  <dc:subject/>
  <dc:title>Me llamo _______ Clase 6 nh/il La fecha es 10 de febrero del 2011</dc:title>
</cp:coreProperties>
</file>